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801600" cy="9601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FA3371EE-EFD4-43D8-AC32-3EA977EE64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7129179A-E160-4AED-B891-AB0C3824B2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7578F9D8-CF84-4620-9333-E85A1B8964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671F70B-2504-471E-8322-D9B520C8F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8F2-B163-4C5F-B7E1-CE410A8C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16C-AC5E-470A-8ACD-D3E391A6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7EC-6117-4267-B3F2-4806BEB4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0EA-00D7-4F18-A223-28C14F60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EFE-EC19-441B-B7E2-0F8AE2F9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010-2767-4E87-8939-63B38502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222-131B-4B9B-845C-2580D364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076-F5D6-4B08-B46A-4CED8CB1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F9D-8DFC-4D36-A9A0-F12E3839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575-F9ED-49DC-AE80-D414ACF4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EE9-B15D-49A7-AB8F-A40CDAD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A03-A6E5-40AE-8FF5-E792095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881909D-1971-4988-9DB3-6CD3A6077AF9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2784240"/>
            <a:ext cx="11879280" cy="3095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Название проекта (не более 60 знаков)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ДК</a:t>
            </a:r>
            <a:r>
              <a:rPr b="0" lang="ru-RU" sz="3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 </a:t>
            </a:r>
            <a:r>
              <a:rPr b="1" lang="ru-RU" sz="3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«</a:t>
            </a:r>
            <a:r>
              <a:rPr b="1" lang="ru-RU" sz="38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НТИ</a:t>
            </a:r>
            <a:r>
              <a:rPr b="1" lang="ru-RU" sz="3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нет»</a:t>
            </a:r>
            <a:r>
              <a:rPr b="0" lang="ru-RU" sz="3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47640" y="1014480"/>
            <a:ext cx="3571920" cy="90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43040" y="7120080"/>
            <a:ext cx="5597280" cy="201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59480" y="6594480"/>
            <a:ext cx="843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34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На комиссию по отбору проектов НТ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584440" y="667224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(10/202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13817520" y="1303200"/>
            <a:ext cx="1716120" cy="169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13846320" y="3924360"/>
            <a:ext cx="1687320" cy="16794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0"/>
          <p:cNvSpPr/>
          <p:nvPr/>
        </p:nvSpPr>
        <p:spPr>
          <a:xfrm>
            <a:off x="9331200" y="527040"/>
            <a:ext cx="2195640" cy="2195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Лого Д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трелка вниз 5"/>
          <p:cNvSpPr/>
          <p:nvPr/>
        </p:nvSpPr>
        <p:spPr>
          <a:xfrm>
            <a:off x="12233160" y="-1392120"/>
            <a:ext cx="1152720" cy="1536480"/>
          </a:xfrm>
          <a:prstGeom prst="downArrow">
            <a:avLst>
              <a:gd name="adj1" fmla="val 100000"/>
              <a:gd name="adj2" fmla="val 4998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Варианты лого Д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Изображение 6" descr="nets_auto.png"/>
          <p:cNvPicPr/>
          <p:nvPr/>
        </p:nvPicPr>
        <p:blipFill>
          <a:blip r:embed="rId5"/>
          <a:srcRect l="0" t="0" r="0" b="44664"/>
          <a:stretch/>
        </p:blipFill>
        <p:spPr>
          <a:xfrm>
            <a:off x="11980800" y="679320"/>
            <a:ext cx="169236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6"/>
          <a:stretch/>
        </p:blipFill>
        <p:spPr>
          <a:xfrm>
            <a:off x="11990520" y="2933640"/>
            <a:ext cx="1760400" cy="16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7"/>
          <a:stretch/>
        </p:blipFill>
        <p:spPr>
          <a:xfrm>
            <a:off x="12063240" y="5232240"/>
            <a:ext cx="1676520" cy="168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8"/>
          <a:stretch/>
        </p:blipFill>
        <p:spPr>
          <a:xfrm>
            <a:off x="13857120" y="6581880"/>
            <a:ext cx="1676520" cy="1630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9"/>
          <a:stretch/>
        </p:blipFill>
        <p:spPr>
          <a:xfrm>
            <a:off x="12063240" y="7824960"/>
            <a:ext cx="1657440" cy="166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9"/>
          <p:cNvSpPr/>
          <p:nvPr/>
        </p:nvSpPr>
        <p:spPr>
          <a:xfrm>
            <a:off x="11990520" y="2496960"/>
            <a:ext cx="176040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- Марин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0"/>
          <p:cNvSpPr/>
          <p:nvPr/>
        </p:nvSpPr>
        <p:spPr>
          <a:xfrm>
            <a:off x="11971440" y="230040"/>
            <a:ext cx="177948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- Автон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1"/>
          <p:cNvSpPr/>
          <p:nvPr/>
        </p:nvSpPr>
        <p:spPr>
          <a:xfrm>
            <a:off x="12017520" y="4800600"/>
            <a:ext cx="176040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- Хелсн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2"/>
          <p:cNvSpPr/>
          <p:nvPr/>
        </p:nvSpPr>
        <p:spPr>
          <a:xfrm>
            <a:off x="12057120" y="7431120"/>
            <a:ext cx="176040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- Техн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3"/>
          <p:cNvSpPr/>
          <p:nvPr/>
        </p:nvSpPr>
        <p:spPr>
          <a:xfrm>
            <a:off x="13750920" y="816120"/>
            <a:ext cx="1758960" cy="3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- Аэрон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24"/>
          <p:cNvSpPr/>
          <p:nvPr/>
        </p:nvSpPr>
        <p:spPr>
          <a:xfrm>
            <a:off x="13746240" y="3432240"/>
            <a:ext cx="1760400" cy="3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- Нейрон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5"/>
          <p:cNvSpPr/>
          <p:nvPr/>
        </p:nvSpPr>
        <p:spPr>
          <a:xfrm>
            <a:off x="13712760" y="6168960"/>
            <a:ext cx="219240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- Энерджин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-27000" y="-23760"/>
            <a:ext cx="1068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Название проекта (не более 60 знак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-315360" y="579600"/>
            <a:ext cx="31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Профиль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Shape 185" descr="C:\Users\pankratov.in\YandexDisk\!NTI\DOCS\ProjectPresentation\icons\PNG\256\19.png"/>
          <p:cNvPicPr/>
          <p:nvPr/>
        </p:nvPicPr>
        <p:blipFill>
          <a:blip r:embed="rId1"/>
          <a:stretch/>
        </p:blipFill>
        <p:spPr>
          <a:xfrm>
            <a:off x="6040440" y="1177920"/>
            <a:ext cx="601560" cy="574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126000" y="1204920"/>
            <a:ext cx="232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Цели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124200" y="4105440"/>
            <a:ext cx="330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Результаты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hape 186" descr="C:\Users\pankratov.in\YandexDisk\!NTI\DOCS\ProjectPresentation\icons\PNG\256\246.png"/>
          <p:cNvPicPr/>
          <p:nvPr/>
        </p:nvPicPr>
        <p:blipFill>
          <a:blip r:embed="rId2"/>
          <a:stretch/>
        </p:blipFill>
        <p:spPr>
          <a:xfrm>
            <a:off x="6111720" y="6540480"/>
            <a:ext cx="576360" cy="563760"/>
          </a:xfrm>
          <a:prstGeom prst="rect">
            <a:avLst/>
          </a:prstGeom>
          <a:ln w="0">
            <a:noFill/>
          </a:ln>
        </p:spPr>
      </p:pic>
      <p:sp>
        <p:nvSpPr>
          <p:cNvPr id="75" name="Shape 180"/>
          <p:cNvSpPr/>
          <p:nvPr/>
        </p:nvSpPr>
        <p:spPr>
          <a:xfrm>
            <a:off x="352440" y="6529320"/>
            <a:ext cx="645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Общая стоимость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hape 189"/>
          <p:cNvSpPr/>
          <p:nvPr/>
        </p:nvSpPr>
        <p:spPr>
          <a:xfrm>
            <a:off x="4384800" y="7824960"/>
            <a:ext cx="1587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 Light"/>
                <a:ea typeface="Calibri"/>
              </a:rPr>
              <a:t>ХХХ 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hape 187"/>
          <p:cNvSpPr/>
          <p:nvPr/>
        </p:nvSpPr>
        <p:spPr>
          <a:xfrm>
            <a:off x="1936800" y="7147080"/>
            <a:ext cx="33796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 Light"/>
                <a:ea typeface="Calibri"/>
              </a:rPr>
              <a:t>Собственные средства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Calibri Light"/>
                <a:ea typeface="Calibri"/>
              </a:rPr>
              <a:t>                                   </a:t>
            </a:r>
            <a:r>
              <a:rPr b="0" i="1" lang="en-US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  </a:t>
            </a:r>
            <a:r>
              <a:rPr b="0" i="1" lang="ru-RU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  </a:t>
            </a:r>
            <a:r>
              <a:rPr b="0" i="1" lang="en-US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         </a:t>
            </a:r>
            <a:r>
              <a:rPr b="0" i="1" lang="ru-RU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  </a:t>
            </a:r>
            <a:r>
              <a:rPr b="1" lang="en-US" sz="1800" spc="-1" strike="noStrike">
                <a:solidFill>
                  <a:srgbClr val="17375e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  <a:ea typeface="Calibri"/>
              </a:rPr>
              <a:t>ХХ </a:t>
            </a:r>
            <a:r>
              <a:rPr b="1" i="1" lang="en-US" sz="1800" spc="-1" strike="noStrike">
                <a:solidFill>
                  <a:srgbClr val="ff0000"/>
                </a:solidFill>
                <a:latin typeface="Calibri Light"/>
                <a:ea typeface="Calibri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hape 190"/>
          <p:cNvSpPr/>
          <p:nvPr/>
        </p:nvSpPr>
        <p:spPr>
          <a:xfrm>
            <a:off x="2044800" y="8294760"/>
            <a:ext cx="3564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 Light"/>
                <a:ea typeface="Calibri"/>
              </a:rPr>
              <a:t>Привлекаемые сре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       </a:t>
            </a:r>
            <a:r>
              <a:rPr b="0" i="1" lang="ru-RU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(грант/ вклад в </a:t>
            </a:r>
            <a:r>
              <a:rPr b="0" i="1" lang="en-US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SPV ) </a:t>
            </a:r>
            <a:r>
              <a:rPr b="0" i="1" lang="ru-RU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        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  <a:ea typeface="Calibri"/>
              </a:rPr>
              <a:t>ХХ 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hape 208"/>
          <p:cNvSpPr/>
          <p:nvPr/>
        </p:nvSpPr>
        <p:spPr>
          <a:xfrm>
            <a:off x="352440" y="1779480"/>
            <a:ext cx="698508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- 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компания-лидер в области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Х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Х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% мирового рынка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ХХ 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к 2025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- выручка </a:t>
            </a:r>
            <a:r>
              <a:rPr b="0" lang="en-US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$</a:t>
            </a:r>
            <a:r>
              <a:rPr b="0" lang="ru-RU" sz="18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</a:t>
            </a:r>
            <a:r>
              <a:rPr b="0" lang="en-US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+ 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млн. (ВЭД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$4+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 </a:t>
            </a:r>
            <a:r>
              <a:rPr b="0" lang="en-US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m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сертификация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 нового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Х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hape 208"/>
          <p:cNvSpPr/>
          <p:nvPr/>
        </p:nvSpPr>
        <p:spPr>
          <a:xfrm>
            <a:off x="279360" y="4583160"/>
            <a:ext cx="79344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полнофункциональное решение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- технический показатель 1</a:t>
            </a:r>
            <a:r>
              <a:rPr b="0" lang="en-US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;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технический показатель 2</a:t>
            </a:r>
            <a:r>
              <a:rPr b="0" lang="en-US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;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технический показатель 3</a:t>
            </a:r>
            <a:r>
              <a:rPr b="0" lang="en-US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 успешных пилотных внедрения (в т.ч. как мин.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  на внешних рынка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- разработаны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 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версий продукта: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такая 1, такая 2, такая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- получена </a:t>
            </a:r>
            <a:r>
              <a:rPr b="0" lang="ru-RU" sz="20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экспортная/ просто</a:t>
            </a:r>
            <a:r>
              <a:rPr b="0" lang="ru-RU" sz="20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 выру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Shape 177" descr="C:\Users\pankratov.in\YandexDisk\!NTI\DOCS\ProjectPresentation\icons\PNG\256\330.png"/>
          <p:cNvPicPr/>
          <p:nvPr/>
        </p:nvPicPr>
        <p:blipFill>
          <a:blip r:embed="rId3"/>
          <a:stretch/>
        </p:blipFill>
        <p:spPr>
          <a:xfrm>
            <a:off x="6111720" y="4091040"/>
            <a:ext cx="576360" cy="5634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4"/>
          <p:cNvSpPr/>
          <p:nvPr/>
        </p:nvSpPr>
        <p:spPr>
          <a:xfrm>
            <a:off x="7275600" y="1128600"/>
            <a:ext cx="2890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Команда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hape 275"/>
          <p:cNvSpPr/>
          <p:nvPr/>
        </p:nvSpPr>
        <p:spPr>
          <a:xfrm>
            <a:off x="10766520" y="1557360"/>
            <a:ext cx="2187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 Light"/>
                <a:ea typeface="Calibri"/>
              </a:rPr>
              <a:t>Петр Петров</a:t>
            </a:r>
            <a:br>
              <a:rPr sz="1400"/>
            </a:br>
            <a:r>
              <a:rPr b="0" lang="en-US" sz="1300" spc="-1" strike="noStrike">
                <a:solidFill>
                  <a:srgbClr val="17375e"/>
                </a:solidFill>
                <a:latin typeface="Calibri Light"/>
                <a:ea typeface="Calibri"/>
              </a:rPr>
              <a:t>IR, CR, </a:t>
            </a:r>
            <a:r>
              <a:rPr b="0" lang="ru-RU" sz="1300" spc="-1" strike="noStrike">
                <a:solidFill>
                  <a:srgbClr val="17375e"/>
                </a:solidFill>
                <a:latin typeface="Calibri Light"/>
                <a:ea typeface="Calibri"/>
              </a:rPr>
              <a:t>рыночная стратеги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hape 280"/>
          <p:cNvSpPr/>
          <p:nvPr/>
        </p:nvSpPr>
        <p:spPr>
          <a:xfrm>
            <a:off x="10763280" y="1992240"/>
            <a:ext cx="173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 Light"/>
                <a:ea typeface="Calibri"/>
              </a:rPr>
              <a:t>ООО «---------»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 Light"/>
                <a:ea typeface="Calibri"/>
              </a:rPr>
              <a:t>ХХХ  долж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hape 275"/>
          <p:cNvSpPr/>
          <p:nvPr/>
        </p:nvSpPr>
        <p:spPr>
          <a:xfrm>
            <a:off x="8129520" y="1557360"/>
            <a:ext cx="2219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Иван Ива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hape 280"/>
          <p:cNvSpPr/>
          <p:nvPr/>
        </p:nvSpPr>
        <p:spPr>
          <a:xfrm>
            <a:off x="8186760" y="2136600"/>
            <a:ext cx="1833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 Light"/>
                <a:ea typeface="Calibri"/>
              </a:rPr>
              <a:t>ООО «---------»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 Light"/>
                <a:ea typeface="Calibri"/>
              </a:rPr>
              <a:t>Ген. директо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2099"/>
          <p:cNvSpPr/>
          <p:nvPr/>
        </p:nvSpPr>
        <p:spPr>
          <a:xfrm>
            <a:off x="8180280" y="1703160"/>
            <a:ext cx="1676520" cy="549720"/>
          </a:xfrm>
          <a:prstGeom prst="roundRect">
            <a:avLst>
              <a:gd name="adj" fmla="val 25435"/>
            </a:avLst>
          </a:prstGeom>
          <a:solidFill>
            <a:srgbClr val="d1e2eb">
              <a:alpha val="71000"/>
            </a:srgbClr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300" spc="-1" strike="noStrike">
                <a:solidFill>
                  <a:srgbClr val="17375e"/>
                </a:solidFill>
                <a:latin typeface="Calibri Light"/>
                <a:ea typeface="Calibri"/>
              </a:rPr>
              <a:t>Руководитель проект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hape 179"/>
          <p:cNvSpPr/>
          <p:nvPr/>
        </p:nvSpPr>
        <p:spPr>
          <a:xfrm>
            <a:off x="7689960" y="7047000"/>
            <a:ext cx="454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Этап 1. </a:t>
            </a:r>
            <a:r>
              <a:rPr b="0" i="1" lang="ru-RU" sz="18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ХХ   (предпроект)                     </a:t>
            </a:r>
            <a:r>
              <a:rPr b="0" lang="ru-RU" sz="1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6 ме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Этап 2. Завершение разработки         18 ме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Этап 3. Вывод продукта на рынок      </a:t>
            </a:r>
            <a:r>
              <a:rPr b="0" lang="ru-RU" sz="1800" spc="-1" strike="noStrike" u="sng">
                <a:solidFill>
                  <a:srgbClr val="17375e"/>
                </a:solidFill>
                <a:uFillTx/>
                <a:latin typeface="Calibri Light"/>
                <a:ea typeface="Calibri Light"/>
              </a:rPr>
              <a:t>12 ме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Shape 191" descr="C:\Users\pankratov.in\YandexDisk\!NTI\DOCS\ProjectPresentation\icons\PNG\256\372.png"/>
          <p:cNvPicPr/>
          <p:nvPr/>
        </p:nvPicPr>
        <p:blipFill>
          <a:blip r:embed="rId4"/>
          <a:stretch/>
        </p:blipFill>
        <p:spPr>
          <a:xfrm>
            <a:off x="11694960" y="6456240"/>
            <a:ext cx="570240" cy="5907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9"/>
          <p:cNvSpPr/>
          <p:nvPr/>
        </p:nvSpPr>
        <p:spPr>
          <a:xfrm>
            <a:off x="7315200" y="6524640"/>
            <a:ext cx="249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Этапы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hape 275"/>
          <p:cNvSpPr/>
          <p:nvPr/>
        </p:nvSpPr>
        <p:spPr>
          <a:xfrm>
            <a:off x="8066160" y="4781520"/>
            <a:ext cx="1825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hape 189"/>
          <p:cNvSpPr/>
          <p:nvPr/>
        </p:nvSpPr>
        <p:spPr>
          <a:xfrm>
            <a:off x="5972040" y="7459560"/>
            <a:ext cx="716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 Light"/>
                <a:ea typeface="Calibri"/>
              </a:rPr>
              <a:t>- 4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hape 189"/>
          <p:cNvSpPr/>
          <p:nvPr/>
        </p:nvSpPr>
        <p:spPr>
          <a:xfrm>
            <a:off x="5896080" y="8529480"/>
            <a:ext cx="792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 Light"/>
                <a:ea typeface="Calibri"/>
              </a:rPr>
              <a:t>- 5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2"/>
          <p:cNvSpPr/>
          <p:nvPr/>
        </p:nvSpPr>
        <p:spPr>
          <a:xfrm>
            <a:off x="458640" y="7464600"/>
            <a:ext cx="1189080" cy="11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Равнобедренный треугольник 9"/>
          <p:cNvSpPr/>
          <p:nvPr/>
        </p:nvSpPr>
        <p:spPr>
          <a:xfrm rot="14226000">
            <a:off x="964080" y="7545240"/>
            <a:ext cx="695160" cy="636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Левая фигурная скобка 17"/>
          <p:cNvSpPr/>
          <p:nvPr/>
        </p:nvSpPr>
        <p:spPr>
          <a:xfrm rot="16200000">
            <a:off x="9753480" y="5960880"/>
            <a:ext cx="249120" cy="4202280"/>
          </a:xfrm>
          <a:custGeom>
            <a:avLst/>
            <a:gdLst>
              <a:gd name="textAreaLeft" fmla="*/ 159120 w 249120"/>
              <a:gd name="textAreaRight" fmla="*/ 249480 w 249120"/>
              <a:gd name="textAreaTop" fmla="*/ 29880 h 4202280"/>
              <a:gd name="textAreaBottom" fmla="*/ 4172400 h 420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3"/>
                </a:cubicBezTo>
                <a:lnTo>
                  <a:pt x="10800" y="10307"/>
                </a:lnTo>
                <a:cubicBezTo>
                  <a:pt x="10800" y="10554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3"/>
                </a:cubicBezTo>
                <a:lnTo>
                  <a:pt x="10800" y="21107"/>
                </a:lnTo>
                <a:cubicBezTo>
                  <a:pt x="10800" y="213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hape 189"/>
          <p:cNvSpPr/>
          <p:nvPr/>
        </p:nvSpPr>
        <p:spPr>
          <a:xfrm>
            <a:off x="9482040" y="8298000"/>
            <a:ext cx="792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 Light"/>
                <a:ea typeface="Calibri"/>
              </a:rPr>
              <a:t>36 ме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hape 189"/>
          <p:cNvSpPr/>
          <p:nvPr/>
        </p:nvSpPr>
        <p:spPr>
          <a:xfrm>
            <a:off x="4745160" y="6837480"/>
            <a:ext cx="1295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 Light"/>
                <a:ea typeface="Calibri"/>
              </a:rPr>
              <a:t>тыс.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hape 275"/>
          <p:cNvSpPr/>
          <p:nvPr/>
        </p:nvSpPr>
        <p:spPr>
          <a:xfrm>
            <a:off x="8190000" y="2624040"/>
            <a:ext cx="2220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 Light"/>
                <a:ea typeface="Calibri"/>
              </a:rPr>
              <a:t>Александр Александров</a:t>
            </a:r>
            <a:br>
              <a:rPr sz="1400"/>
            </a:br>
            <a:r>
              <a:rPr b="0" lang="ru-RU" sz="1400" spc="-1" strike="noStrike">
                <a:solidFill>
                  <a:srgbClr val="17375e"/>
                </a:solidFill>
                <a:latin typeface="Calibri Light"/>
                <a:ea typeface="Calibri"/>
              </a:rPr>
              <a:t>Главный разработч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hape 280"/>
          <p:cNvSpPr/>
          <p:nvPr/>
        </p:nvSpPr>
        <p:spPr>
          <a:xfrm>
            <a:off x="8186760" y="3070080"/>
            <a:ext cx="183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 Light"/>
                <a:ea typeface="Calibri"/>
              </a:rPr>
              <a:t>ООО «---------»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 Light"/>
                <a:ea typeface="Calibri"/>
              </a:rPr>
              <a:t>ХХХ  долж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hape 275"/>
          <p:cNvSpPr/>
          <p:nvPr/>
        </p:nvSpPr>
        <p:spPr>
          <a:xfrm>
            <a:off x="10766520" y="2602080"/>
            <a:ext cx="20923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 Light"/>
                <a:ea typeface="Calibri"/>
              </a:rPr>
              <a:t>Владимир Владимиров</a:t>
            </a:r>
            <a:br>
              <a:rPr sz="1400"/>
            </a:br>
            <a:r>
              <a:rPr b="0" lang="ru-RU" sz="1400" spc="-1" strike="noStrike">
                <a:solidFill>
                  <a:srgbClr val="003462"/>
                </a:solidFill>
                <a:latin typeface="Calibri Light"/>
                <a:ea typeface="Calibri"/>
              </a:rPr>
              <a:t>Научный руководит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hape 280"/>
          <p:cNvSpPr/>
          <p:nvPr/>
        </p:nvSpPr>
        <p:spPr>
          <a:xfrm>
            <a:off x="8064360" y="4816440"/>
            <a:ext cx="47628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Calibri Light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компания типа </a:t>
            </a:r>
            <a:r>
              <a:rPr b="0" lang="ru-RU" sz="18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ХХ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Calibri Light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успешный разработчик</a:t>
            </a:r>
            <a:r>
              <a:rPr b="0" lang="ru-RU" sz="18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 ХХ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Calibri Light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профильная выру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Calibri Light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реализованные проек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2"/>
          <p:cNvSpPr/>
          <p:nvPr/>
        </p:nvSpPr>
        <p:spPr>
          <a:xfrm>
            <a:off x="7262640" y="1681200"/>
            <a:ext cx="854280" cy="84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Фо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4"/>
          <p:cNvSpPr/>
          <p:nvPr/>
        </p:nvSpPr>
        <p:spPr>
          <a:xfrm>
            <a:off x="9925200" y="1704960"/>
            <a:ext cx="852480" cy="84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Фо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hape 280"/>
          <p:cNvSpPr/>
          <p:nvPr/>
        </p:nvSpPr>
        <p:spPr>
          <a:xfrm>
            <a:off x="10793520" y="3071880"/>
            <a:ext cx="1833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 Light"/>
                <a:ea typeface="Calibri"/>
              </a:rPr>
              <a:t>ООО «---------»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 Light"/>
                <a:ea typeface="Calibri"/>
              </a:rPr>
              <a:t>ХХХ  долж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4"/>
          <p:cNvSpPr/>
          <p:nvPr/>
        </p:nvSpPr>
        <p:spPr>
          <a:xfrm>
            <a:off x="11128320" y="3936960"/>
            <a:ext cx="1370160" cy="84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 Light"/>
                <a:ea typeface="Calibri Light"/>
              </a:rPr>
              <a:t>Лого комп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6"/>
          <p:cNvSpPr/>
          <p:nvPr/>
        </p:nvSpPr>
        <p:spPr>
          <a:xfrm>
            <a:off x="7201800" y="4106880"/>
            <a:ext cx="329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Инициатор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917424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2D3E62DF-83B6-495C-963F-CB9F5F4B8DAB}" type="slidenum">
              <a:rPr b="0" lang="ru-RU" sz="17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00440" y="22320"/>
            <a:ext cx="6377040" cy="473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Название проекта (не более 60 знако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360" y="123840"/>
            <a:ext cx="2936880" cy="7142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Запуск проекта: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месяц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одзаголовок 2"/>
          <p:cNvSpPr/>
          <p:nvPr/>
        </p:nvSpPr>
        <p:spPr>
          <a:xfrm>
            <a:off x="9177480" y="71280"/>
            <a:ext cx="3452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rmAutofit fontScale="9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полнитель: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казать наименование исполнителя по про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6618240" y="1249200"/>
            <a:ext cx="6377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23720" y="1168560"/>
          <a:ext cx="12072960" cy="6580080"/>
        </p:xfrm>
        <a:graphic>
          <a:graphicData uri="http://schemas.openxmlformats.org/drawingml/2006/table">
            <a:tbl>
              <a:tblPr/>
              <a:tblGrid>
                <a:gridCol w="1901880"/>
                <a:gridCol w="2762280"/>
                <a:gridCol w="3065400"/>
                <a:gridCol w="123840"/>
                <a:gridCol w="1293840"/>
                <a:gridCol w="601920"/>
                <a:gridCol w="284040"/>
                <a:gridCol w="1138320"/>
                <a:gridCol w="901440"/>
              </a:tblGrid>
              <a:tr h="89532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20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20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20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20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68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4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эта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роведен аудит и анализ ... 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работана концепция … 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работана архитектура… 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работка технического задания …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работка …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оздание …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работана концепция …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6120" rIns="96120" tIns="47880" bIns="47880" anchor="t">
                      <a:noAutofit/>
                    </a:bodyPr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работка …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оработка технического проекта … 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…</a:t>
                      </a: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 gridSpan="5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ИРОВАНИЕ (млн.руб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XX (YY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нос всей суммы бюджета и внебюджета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г. на ХХ-ХХг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жнее знач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212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к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е знач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+</a:t>
                      </a:r>
                      <a:r>
                        <a:rPr b="0" i="1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YYY</a:t>
                      </a: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+</a:t>
                      </a:r>
                      <a:r>
                        <a:rPr b="0" i="1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YYY</a:t>
                      </a: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БЮДЖ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</a:t>
                      </a: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XX (YY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212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жнее знач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428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к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е знач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+</a:t>
                      </a:r>
                      <a:r>
                        <a:rPr b="0" i="1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YYY</a:t>
                      </a: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X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+</a:t>
                      </a:r>
                      <a:r>
                        <a:rPr b="0" i="1" lang="en-US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YYY</a:t>
                      </a: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4" name="Овал 4"/>
          <p:cNvSpPr/>
          <p:nvPr/>
        </p:nvSpPr>
        <p:spPr>
          <a:xfrm>
            <a:off x="2521080" y="3008160"/>
            <a:ext cx="1022508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Указать содержание этапов в соответствии с описанием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трелка вправо 16"/>
          <p:cNvSpPr/>
          <p:nvPr/>
        </p:nvSpPr>
        <p:spPr>
          <a:xfrm>
            <a:off x="136440" y="3287880"/>
            <a:ext cx="12096720" cy="1008000"/>
          </a:xfrm>
          <a:prstGeom prst="rightArrow">
            <a:avLst>
              <a:gd name="adj1" fmla="val 100000"/>
              <a:gd name="adj2" fmla="val 0"/>
            </a:avLst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-399960" y="623880"/>
            <a:ext cx="460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Структура проекта </a:t>
            </a:r>
            <a:r>
              <a:rPr b="0" i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(этапы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52440" y="1487520"/>
          <a:ext cx="11734920" cy="6691320"/>
        </p:xfrm>
        <a:graphic>
          <a:graphicData uri="http://schemas.openxmlformats.org/drawingml/2006/table">
            <a:tbl>
              <a:tblPr/>
              <a:tblGrid>
                <a:gridCol w="3741840"/>
                <a:gridCol w="218880"/>
                <a:gridCol w="1257480"/>
                <a:gridCol w="1822320"/>
                <a:gridCol w="2328840"/>
                <a:gridCol w="2365560"/>
              </a:tblGrid>
              <a:tr h="487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Наименование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Срок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Размер поддерж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Форма поддерж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Объем со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Этап 1 Подтверждение параметров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6 меся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0  млн.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0 млн. руб. (10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.1. уточнение технических барь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2 меся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4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Что будет сделано/ каким документом будет подтверждено завершение этап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 Light"/>
                          <a:ea typeface="Calibri"/>
                        </a:rPr>
                        <a:t>1.2. уточнение бизнес барь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 Light"/>
                          <a:ea typeface="Calibri"/>
                        </a:rPr>
                        <a:t>2 меся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 Light"/>
                          <a:ea typeface="Courier New"/>
                        </a:rPr>
                        <a:t>3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Что будет сделано/ каким документом будет подтверждено завершение этап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.3. уточнение социальных барь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2 меся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3 </a:t>
                      </a: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Что будет сделано/ каким документом будет подтверждено завершение этап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Этап 2 Завершение разработ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8 месяце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300 млн. руб. (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55%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246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млн. руб. (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45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2.1.а. финальные стадии разработ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8 месяце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300 млн.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вклад в </a:t>
                      </a:r>
                      <a:r>
                        <a:rPr b="0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SP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246 </a:t>
                      </a: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млн.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15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Проектирование/ Отчет о НИОК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Испытание отдельных узлов/ Отчёт о НИОКР/ Протокол испытаний отдельных узл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Отработка прототипа/ Отчёт о НИОКР/ КД прототипа / Протокол испытаний прототи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Отработка пре-коммерческого прототипа/ Отчёт о НИОКР/КД прототипа / Протокол испытаний прототи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Этап 3  Вывод продукта на рынки Н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2 месяце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200 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млн. руб. (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55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64 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млн. руб. (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45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3.1. Нахождение первых партнеров и заказчиков/ Выход на зарубежные рын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2</a:t>
                      </a: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месяце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200 </a:t>
                      </a: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млн.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вклад в </a:t>
                      </a:r>
                      <a:r>
                        <a:rPr b="0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SP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164 </a:t>
                      </a:r>
                      <a:r>
                        <a:rPr b="0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млн.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Пилотные проекты/ Отчёт о пилотных проектах</a:t>
                      </a:r>
                      <a:br>
                        <a:rPr sz="1500"/>
                      </a:b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ourier New"/>
                        </a:rPr>
                        <a:t>Запуск серийного производства/ акты ввода в промышленную эксплуатацию/ финансовый отчет/ договоры поста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Всего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36 месяце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500 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млн. руб.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(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5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5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4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20 млн. руб. (</a:t>
                      </a:r>
                      <a:r>
                        <a:rPr b="1" lang="en-US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4</a:t>
                      </a:r>
                      <a:r>
                        <a:rPr b="1" lang="ru-RU" sz="1500" spc="-1" strike="noStrike">
                          <a:solidFill>
                            <a:srgbClr val="17375e"/>
                          </a:solidFill>
                          <a:latin typeface="Calibri Light"/>
                          <a:ea typeface="Calibri"/>
                        </a:rPr>
                        <a:t>5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25"/>
          <p:cNvSpPr/>
          <p:nvPr/>
        </p:nvSpPr>
        <p:spPr>
          <a:xfrm>
            <a:off x="-27000" y="-23760"/>
            <a:ext cx="1068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Название проекта (не более 60 знаков</a:t>
            </a:r>
            <a:r>
              <a:rPr b="0" i="1" lang="ru-RU" sz="22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917424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4CB6AF3-0A80-4E93-8F34-60F5D97BFD64}" type="slidenum">
              <a:rPr b="0" lang="ru-RU" sz="17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-1760400" y="3360600"/>
            <a:ext cx="247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>
                <a:solidFill>
                  <a:srgbClr val="00b0f0"/>
                </a:solidFill>
                <a:latin typeface="Calibri"/>
              </a:rPr>
              <a:t>Отметить текущий эта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168800" y="431640"/>
            <a:ext cx="748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500" spc="-1" strike="noStrike">
                <a:solidFill>
                  <a:srgbClr val="00b0f0"/>
                </a:solidFill>
                <a:latin typeface="Calibri"/>
              </a:rPr>
              <a:t>Если параметры этапа/ подэтапа меняются, выделить строку красным цвето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12800" y="1128600"/>
          <a:ext cx="10193400" cy="6181920"/>
        </p:xfrm>
        <a:graphic>
          <a:graphicData uri="http://schemas.openxmlformats.org/drawingml/2006/table">
            <a:tbl>
              <a:tblPr/>
              <a:tblGrid>
                <a:gridCol w="898560"/>
                <a:gridCol w="4776840"/>
                <a:gridCol w="2259000"/>
                <a:gridCol w="2259000"/>
              </a:tblGrid>
              <a:tr h="60984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i="1" lang="ru-RU" sz="20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i="1" lang="ru-RU" sz="20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Вид расх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i="1" lang="ru-RU" sz="20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Объем финансового обеспечения реализации проекта </a:t>
                      </a:r>
                      <a:r>
                        <a:rPr b="1" i="1" lang="ru-RU" sz="2000" spc="-1" strike="noStrike" u="sng">
                          <a:solidFill>
                            <a:srgbClr val="17375e"/>
                          </a:solidFill>
                          <a:uFillTx/>
                          <a:latin typeface="Calibri Light"/>
                        </a:rPr>
                        <a:t>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за счет средств федерального бюдже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за счет внебюджетных источник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Расходы на оплату тру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 Light"/>
                          <a:ea typeface="Calibri Light"/>
                        </a:rPr>
                        <a:t>1 100 000 (+100 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Материально-технические рас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Технологические работы и услу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Заказ исследова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Расходы на патент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Расходы на сертификац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Calibri Light"/>
                          <a:ea typeface="Calibri Light"/>
                        </a:rPr>
                        <a:t>900 000 (-100 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Патенты и ноу-х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Лицензионные платеж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Программное обеспеч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Консультационные услу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Капитальное строительс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Приобретение недвижимого имущ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Аренда имущ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Организационные рас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Командировочные рас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4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98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i="1" lang="ru-RU" sz="15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Прочие рас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8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i="1" lang="ru-RU" sz="2000" spc="-1" strike="noStrike">
                          <a:solidFill>
                            <a:srgbClr val="17375e"/>
                          </a:solidFill>
                          <a:latin typeface="Calibri Light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6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 Light"/>
                          <a:ea typeface="Calibri Light"/>
                        </a:rPr>
                        <a:t>16 0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4"/>
          <p:cNvSpPr/>
          <p:nvPr/>
        </p:nvSpPr>
        <p:spPr>
          <a:xfrm>
            <a:off x="0" y="623880"/>
            <a:ext cx="6616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Проектные  расхо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-27000" y="-23760"/>
            <a:ext cx="1068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Название проекта (не более 60 знаков</a:t>
            </a:r>
            <a:r>
              <a:rPr b="0" i="1" lang="ru-RU" sz="22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917424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692E2DC-643C-4F2D-B452-5E4058AF0F8A}" type="slidenum">
              <a:rPr b="0" lang="ru-RU" sz="17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1"/>
          <p:cNvSpPr/>
          <p:nvPr/>
        </p:nvSpPr>
        <p:spPr>
          <a:xfrm>
            <a:off x="10339560" y="2208240"/>
            <a:ext cx="3622680" cy="496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Указать все статьи расходов по проекту  (</a:t>
            </a:r>
            <a:r>
              <a:rPr b="1" i="1" lang="ru-RU" sz="2500" spc="-1" strike="noStrike">
                <a:solidFill>
                  <a:srgbClr val="00b050"/>
                </a:solidFill>
                <a:latin typeface="Calibri Light"/>
                <a:ea typeface="Calibri Light"/>
              </a:rPr>
              <a:t>уменьшение с минусом, </a:t>
            </a:r>
            <a:r>
              <a:rPr b="1" i="1" lang="ru-RU" sz="25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увеличение с плюсом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Нулевые строки можно удал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13"/>
          <p:cNvSpPr/>
          <p:nvPr/>
        </p:nvSpPr>
        <p:spPr>
          <a:xfrm>
            <a:off x="647640" y="7392960"/>
            <a:ext cx="11298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Комментарий:  кратко перечислить причины внесения изменений в Проект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0" y="623880"/>
            <a:ext cx="6616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Полученные согласов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-27000" y="-23760"/>
            <a:ext cx="1068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Название проекта (не более 60 знаков</a:t>
            </a:r>
            <a:r>
              <a:rPr b="0" i="1" lang="ru-RU" sz="22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4"/>
          <p:cNvSpPr/>
          <p:nvPr/>
        </p:nvSpPr>
        <p:spPr>
          <a:xfrm>
            <a:off x="917424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6DA89DB8-66FA-4A93-9CFB-F4A0A3B4D8F5}" type="slidenum">
              <a:rPr b="0" lang="ru-RU" sz="17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647640" y="1327320"/>
            <a:ext cx="112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 Light"/>
              </a:rPr>
              <a:t>Перечислить полученные согласования, отметить отсутствующие, процитировать полученные замечания, прокомментировать и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4"/>
          <p:cNvSpPr/>
          <p:nvPr/>
        </p:nvSpPr>
        <p:spPr>
          <a:xfrm>
            <a:off x="-478080" y="623880"/>
            <a:ext cx="447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Ответственные за проек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-27000" y="-23760"/>
            <a:ext cx="1068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 Light"/>
                <a:ea typeface="Calibri Light"/>
              </a:rPr>
              <a:t>Название проекта (не более 60 знаков</a:t>
            </a:r>
            <a:r>
              <a:rPr b="0" i="1" lang="ru-RU" sz="22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9166320" y="8886960"/>
            <a:ext cx="298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02C74346-531B-4284-B73F-1FACEFBE500C}" type="slidenum">
              <a:rPr b="0" lang="ru-RU" sz="17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114480" y="1200240"/>
            <a:ext cx="2890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Команда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hape 180"/>
          <p:cNvSpPr/>
          <p:nvPr/>
        </p:nvSpPr>
        <p:spPr>
          <a:xfrm>
            <a:off x="352440" y="5872320"/>
            <a:ext cx="32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Куратор проекта*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8"/>
          <p:cNvSpPr/>
          <p:nvPr/>
        </p:nvSpPr>
        <p:spPr>
          <a:xfrm>
            <a:off x="5958000" y="5867280"/>
            <a:ext cx="528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 Light"/>
                <a:ea typeface="Calibri Light"/>
              </a:rPr>
              <a:t>Заказчик-координатор проекта*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"/>
          <p:cNvSpPr/>
          <p:nvPr/>
        </p:nvSpPr>
        <p:spPr>
          <a:xfrm>
            <a:off x="6337440" y="6303960"/>
            <a:ext cx="59720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Заказчик-координатор проекта – физическое или юридическое лицо, которое формулирует требования к результатам и обычно является владельцем результатов проекта. В случае, когда в проекте создаются несколько результатов с разными владельцами или у одного результата есть несколько владельцев, Заказчик-координатор проекта определяет требования к результату (результатам), принимает решение в случае наличия конфликта интересов между несколькими владельцами результата (результатов) и/или может назначить единого ответственного за принятие решения по требованиям к результату (-ам) проек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352440" y="6303960"/>
            <a:ext cx="5977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Куратор проекта – лицо, ответственное за обеспечение проекта ресурсами и осуществляющее организационно-техническую и административную поддержку проекта. В случае, если Руководитель проекта не может решить вопрос, связанный с реализацией проекта, на своем уровне, он обращается к Куратору проек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0"/>
          <p:cNvSpPr/>
          <p:nvPr/>
        </p:nvSpPr>
        <p:spPr>
          <a:xfrm>
            <a:off x="360360" y="1776240"/>
            <a:ext cx="5969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Руководитель проекта – лицо, осуществляющее управление проектом и ответственное за результаты проекта. Обратите внимание на то, что Руководитель проекта осуществляет операционное, ежедневное управление проектом и должен обладать компетенциями в области проектного управлен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1"/>
          <p:cNvSpPr/>
          <p:nvPr/>
        </p:nvSpPr>
        <p:spPr>
          <a:xfrm>
            <a:off x="352440" y="2982960"/>
            <a:ext cx="5977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Риск-координатор – это участник проекта, который осуществляет руководство процессом мониторинга рисков проекта, проведение оценки рисков реализации проекта указанными в настоящих методами и утверждение путей управления рисками. (Может исполняться руководителем проект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2"/>
          <p:cNvSpPr/>
          <p:nvPr/>
        </p:nvSpPr>
        <p:spPr>
          <a:xfrm>
            <a:off x="360360" y="4208400"/>
            <a:ext cx="5969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Прочи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- администратор проекта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- главный инженер проекта </a:t>
            </a:r>
            <a:r>
              <a:rPr b="0" lang="en-US" sz="1500" spc="-1" strike="noStrike">
                <a:solidFill>
                  <a:srgbClr val="17375e"/>
                </a:solidFill>
                <a:latin typeface="Calibri Light"/>
              </a:rPr>
              <a:t>/ </a:t>
            </a: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Архитектор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- планировщик проекта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- руководитель функциональной группы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- представитель субподрядчика (соисполнителя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23"/>
          <p:cNvSpPr/>
          <p:nvPr/>
        </p:nvSpPr>
        <p:spPr>
          <a:xfrm>
            <a:off x="6103080" y="1200240"/>
            <a:ext cx="344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10253f"/>
                </a:solidFill>
                <a:latin typeface="Calibri Light"/>
                <a:ea typeface="Calibri Light"/>
              </a:rPr>
              <a:t>Достижения проек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28"/>
          <p:cNvSpPr/>
          <p:nvPr/>
        </p:nvSpPr>
        <p:spPr>
          <a:xfrm>
            <a:off x="6329520" y="1776240"/>
            <a:ext cx="502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 Light"/>
              </a:rPr>
              <a:t>Результаты, отзыв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1"/>
          <p:cNvSpPr/>
          <p:nvPr/>
        </p:nvSpPr>
        <p:spPr>
          <a:xfrm>
            <a:off x="512640" y="9029880"/>
            <a:ext cx="59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Candara Light"/>
              </a:rPr>
              <a:t>* не входят в команду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14:27:13Z</dcterms:created>
  <dc:creator>Плотников Андрей</dc:creator>
  <dc:description/>
  <dc:language>en-US</dc:language>
  <cp:lastModifiedBy>Абаева Анастасия</cp:lastModifiedBy>
  <cp:lastPrinted>2019-09-09T13:12:35Z</cp:lastPrinted>
  <dcterms:modified xsi:type="dcterms:W3CDTF">2022-08-23T10:07:35Z</dcterms:modified>
  <cp:revision>248</cp:revision>
  <dc:subject/>
  <dc:title>Презентация PowerPoint</dc:title>
</cp:coreProperties>
</file>